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4BA-8DD4-405E-8D68-BE32EA1D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D37-A8A7-4C51-93B8-F28B1A0E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893-046C-4C49-8A96-42880717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040-95BB-46B4-A65F-914AA769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1E5A-DDAD-4961-9DB3-280814D0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EDD9-D7BC-4501-8110-2E169B11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267E-CEAF-4BAC-8E44-B78D9A1E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8007-5B89-4A52-AC56-CBDF0445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1905-139D-4A2F-AE47-2EBD3F0C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3F36-53EA-4DA5-8C81-3F188757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6DF2-7ABB-4844-B000-105D49BA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1C7-3132-4A17-B868-1691FB45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0A8E-91CC-4497-9E42-FAFD5AB7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DB8E-87F7-444E-863A-186C3C98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7775-36E2-407D-83EF-1702D026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7B22-9F3B-4190-991E-E1AE24D8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C8F4-9DE4-4223-B873-EF3EE2A4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1FB-746C-4DC6-9A9F-0AB63FBE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A8D-14D4-40EC-805A-EDC61916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4CF-4730-48DE-9B05-90F7950B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3E1-451F-4D8F-BCB3-F9F34D06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B3F-3D59-4A2B-8562-E8512A7A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2A1-9D57-4F0F-95BA-F3EDD490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496-672A-4BAC-BE1D-3A8A889F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2138-C61D-4DF3-A819-599904F8FF5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0AC7-7CB9-42E0-AE9D-941ADFFDD35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sson 4: Caring for Your Eyes and Ea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…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In the inner ear, the oval window causes the fluid in the cochlea to mov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Tiny hairs lining the cochlea vibrate in response, sending electrical messages to the auditory nerv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These messages travel to the brain, which identifies soun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ring for Your Ea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b17"/>
                </a:solidFill>
                <a:latin typeface="Arial Black"/>
              </a:rPr>
              <a:t>Keep volume fairly low on your radi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ibel – unit for measuring the loudness of sound wav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rmal conversation = 60 decibe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unds over 125 decibels are loud enough to be painfu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Wear ear plugs, or other hearing protection if you are going to be exposed to loud, prolonged nois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Clean the outside of your ear with a wet wash cloth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On cold days, wear earrmuffs. Cold air can irritate your middle ea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 a separate sheet of paper, draw an ey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bel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LERA – white part of the ey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PIL – Black part in the cent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RIS – colored part of your ey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 Black"/>
              </a:rPr>
              <a:t>Write the functions of each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*** USE PAGE 76 FOR HELP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ew/Clos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Identify the cornea, iris, pupil, lens, and retin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Explain what an optometrist and an ophthalmologist a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What is a decibel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LL ACTIVI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do people wear sunglasses? List as many reasons as you ca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Your Eyes 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r eyes tell you about the world – about light, darkness, shapes, colors, and move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The data gathered by your eyes is interpreted by your brain, allowing you to recognize your friend coming toward you in the hallw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Eye – Figure 3.11, p. 76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Sclera – the white of the ey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Cornea – the clear section that lets in light at the front of the ey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Iris – colored part of the ey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Pupil – dark opening in the center of the iris *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Lens – focuses light on the retin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Retina – the light-sensing part of the inner ey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Optic Nerve – bundle of nerve fibers that send messages to the brain, which interprets the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ring for Your Ey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Make sure you have enough ligh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Avoid having too much light. Sit at least 6 feet away from the TV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Don’t rub your ey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rotect your eyes from injur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u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Optometri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trained to examine the eyes for vision problems and to prescribe corrective len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Ophthalmologi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a physician who specializes in the structure, functions, and diseases of the ey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blems with Vi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stigmatism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an eye condition in which images are distor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arsigh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rsigh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Your Ears 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Allow you to hear and keep your balan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Outer ear is shaped like a cup to pick up sound waves, which are vibrations in the air. The sound waves travel through the external auditory cana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In the middle ear, these waves make the eardrum vibrate. The vibrations of the eardrum move three tiny bones called the hammer, the anvil, and the stirru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These bones carry the vibrations to the oval windo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3:22:42Z</dcterms:created>
  <dc:creator>GSCS</dc:creator>
  <dc:description/>
  <dc:language>en-US</dc:language>
  <cp:lastModifiedBy>GSCS</cp:lastModifiedBy>
  <dcterms:modified xsi:type="dcterms:W3CDTF">2010-10-07T17:37:39Z</dcterms:modified>
  <cp:revision>7</cp:revision>
  <dc:subject/>
  <dc:title>Chapter 3</dc:title>
</cp:coreProperties>
</file>